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517C-D147-4D46-874D-D96185F0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0DD1-7D18-423C-9C93-DC7514F2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93C2-022C-4DD2-88A5-B3ED09194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ADF2-6C81-4805-9B65-5D7504A30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1634-A6B9-41B7-BDE8-6F582DD64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8CD-6217-4347-AF2C-52A66E80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203-5542-4A14-A433-5C7E7F11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6A0-7A15-4D06-9070-8639B18E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957-10BA-4F84-B51E-D6EB845C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D276-ABFF-4F9B-8AEC-C27EB821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BC4-46CD-4231-B5F1-81D131D8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2322-1498-45E6-9A0C-4A7AEF24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58B5-1BD3-412D-8057-8AA6AF0D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1011-B3A1-4D8D-9095-791957F1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CE2-B471-41AB-AC49-6294403D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2F9-1160-4B6E-A8BF-9C19B949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66C-A167-4542-9A1D-8EBB2F78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5635-B524-4080-ADBF-B6D90687A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1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2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3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4.jpeg"/><Relationship Id="rId12" Type="http://schemas.openxmlformats.org/officeDocument/2006/relationships/image" Target="../media/image5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6.jpeg"/><Relationship Id="rId15" Type="http://schemas.openxmlformats.org/officeDocument/2006/relationships/image" Target="../media/image7.jpeg"/><Relationship Id="rId16" Type="http://schemas.openxmlformats.org/officeDocument/2006/relationships/image" Target="../media/image1.jpeg"/><Relationship Id="rId17" Type="http://schemas.openxmlformats.org/officeDocument/2006/relationships/image" Target="../media/image5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8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by Kennedy to 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ave you finalized your plans for the Texas trip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ine, Massachuset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Jacqueline Kenned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mmanding the Army, making peace with the Soviet Union,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romoting civil rights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Some Like it Hot, Gentleman Prefer Blondes, Ocean’s Eleven, Guys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nd Do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Ed Sullivan Show, The Frank Sinatra Show, To Tell the T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Road Not Taken, From Russia With Love, Marlborough, Declin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and Fall of the Roman Emp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0 Pennsylvania Avenue NW, Washington, DC 205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202) 456-11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6" descr="4"/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7" descr="1"/>
          <p:cNvPicPr/>
          <p:nvPr/>
        </p:nvPicPr>
        <p:blipFill>
          <a:blip r:embed="rId4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8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1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3" descr="2"/>
          <p:cNvPicPr/>
          <p:nvPr/>
        </p:nvPicPr>
        <p:blipFill>
          <a:blip r:embed="rId7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5"/>
          <p:cNvPicPr/>
          <p:nvPr/>
        </p:nvPicPr>
        <p:blipFill>
          <a:blip r:embed="rId8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oaththp"/>
          <p:cNvPicPr/>
          <p:nvPr/>
        </p:nvPicPr>
        <p:blipFill>
          <a:blip r:embed="rId9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celebthp"/>
          <p:cNvPicPr/>
          <p:nvPr/>
        </p:nvPicPr>
        <p:blipFill>
          <a:blip r:embed="rId10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JohnFKennedy_FrankSinatra"/>
          <p:cNvPicPr/>
          <p:nvPr/>
        </p:nvPicPr>
        <p:blipFill>
          <a:blip r:embed="rId11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grmykthp"/>
          <p:cNvPicPr/>
          <p:nvPr/>
        </p:nvPicPr>
        <p:blipFill>
          <a:blip r:embed="rId12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glennthp"/>
          <p:cNvPicPr/>
          <p:nvPr/>
        </p:nvPicPr>
        <p:blipFill>
          <a:blip r:embed="rId13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752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 Te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2590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the Missionaries of Charity in Calcutta, India, 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 – won Nobel peace Pr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0 – Awarded Bharat Ratna in In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28 – Joined the Sisters of Loreto as a mission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2 – Opened the Kalighat Home for the Dy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55 – Opened the Nirmala Shishu Bivhan for orphans and homeless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2 – Negotiated a  cease-fire between Israeli and Palestine armies to rescue 37 children from a devastated hos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1 – Opened Missionaries for Charity Brothers in Alb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83 – Suffered heart attack while visiting Pope John Paul II in R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57150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 idea borrowed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echtoolsforschools.blogspot.com/2010/01/facebook-project-templ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380880" y="58802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Vickie Garner</cp:lastModifiedBy>
  <dcterms:modified xsi:type="dcterms:W3CDTF">2010-10-21T15:40:44Z</dcterms:modified>
  <cp:revision>19</cp:revision>
  <dc:subject/>
  <dc:title>Profile</dc:title>
</cp:coreProperties>
</file>